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3D0A-21F5-429E-9B00-A29A925F4B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371A-A719-4226-B770-7AA8302D4E1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929-E0C4-4925-AE83-A79F0C99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5EE-79F0-4AE1-9ED0-C7300DFC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7DF-69E9-461E-A788-97399F9D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F7F-510F-4A3E-9512-498CB7F5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8C1E-6BAD-4D76-8C03-9FD2699F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84E8-06D3-4B87-8D1B-D495AFB5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A111-DBEF-4647-A74A-90AC2E03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D982-5306-493D-AAF4-72FD65BC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7161-939E-4CB7-A56C-7EB0653E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18C1-035F-474D-9D26-F8748D94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E697-EB2E-4725-B666-DB71787B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9082-6C10-4E30-AD7F-0C1A5529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7E3A-18BD-423A-9E68-6DB051A2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AFA6-0F0D-44FF-A8F4-3BB0B8C7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5E3F-4E8E-4675-8994-E6E421DE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4A6F-4E9C-4A96-87B6-0F647B28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9824-0B10-4DAF-8DA3-B17A8F2E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8BF7-E905-491F-AE83-5F0EA97E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B13-2C9C-4818-9643-D7D98A35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5154-782D-43D8-B274-433E0EF0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1212-5F15-46D0-AFE0-0529FF35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33C-F455-4E8F-B7E2-45EF2F71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7284-40D1-4288-9562-B2BEFEE9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35F-08C6-41D5-A934-07F07079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5942-5048-41BA-A4B5-2515F66388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0287-DE50-404D-82D1-9BC40B654B7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8" descr=""/>
          <p:cNvPicPr/>
          <p:nvPr/>
        </p:nvPicPr>
        <p:blipFill>
          <a:blip r:embed="rId1"/>
          <a:stretch/>
        </p:blipFill>
        <p:spPr>
          <a:xfrm>
            <a:off x="1352520" y="1785960"/>
            <a:ext cx="6585120" cy="3760920"/>
          </a:xfrm>
          <a:prstGeom prst="rect">
            <a:avLst/>
          </a:prstGeom>
          <a:ln w="0">
            <a:noFill/>
          </a:ln>
        </p:spPr>
      </p:pic>
      <p:pic>
        <p:nvPicPr>
          <p:cNvPr id="90" name="01_victory_mike_batt_mix_.mp3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750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Обеспечение здоровья школьник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99680" y="1928520"/>
            <a:ext cx="8001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ехнологии и методики здоровьесберегающего обуч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организации питания учащих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организации спортивных занятий с учащими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организации медицинского обслуживания учащих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держка талантливых дет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2600" y="1785600"/>
            <a:ext cx="807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специализированных учреждений для одарённых детей, оказавшихся в трудной жизненной ситуаци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мероприятий для поддержки общения и взаимодействия детей в различных областях интеллектуальной и творческой деятельност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летних (сезонных) профильных школ для самореализации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ная система олимпиад, соревнований, конкурсов и иных творческих испытаний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ионное, заочное и очно-заочное образование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ное обучение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8" descr=""/>
          <p:cNvPicPr/>
          <p:nvPr/>
        </p:nvPicPr>
        <p:blipFill>
          <a:blip r:embed="rId1"/>
          <a:stretch/>
        </p:blipFill>
        <p:spPr>
          <a:xfrm>
            <a:off x="596880" y="927000"/>
            <a:ext cx="84740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аша новая школ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6920" y="5662440"/>
            <a:ext cx="80582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образовательная инициати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илюрик Ирина Петров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28440" y="5643360"/>
            <a:ext cx="80578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редняя общеобразовательная школа № 10 г. Йошкар-Олы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8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он РФ об образован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1856880"/>
            <a:ext cx="8464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. 2, ст. 1 Закона об образовани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й основой государственной политики Российской Федерации в области образования являет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ая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евая программ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ития образован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750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реализации програм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040" y="1643040"/>
            <a:ext cx="8143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-2010 г.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пилотных моделей развития системы общего образ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тратегии обновления системы общего образ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-2015 г.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указанных моделей в практике каждого муниципалите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ключевых параметров инициативы «Наша новая школа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ючевые параметр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1928880"/>
            <a:ext cx="814392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ие образовательных стандарт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чительского потенциал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школьной инфраструктур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здоровья школьник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талантливых дете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новление образовательных стандарт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42600" y="192888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ребования к образовательным программа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ые механизмы оценки качества образования для разных групп образовательных учрежде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сопоставительных исследованиях качества образования в различных муниципалитетах, субъектах Российской Федерации, на международном уровн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учительского потенциа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856880"/>
            <a:ext cx="828648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в школы учителей, имеющих базовое непедагогическое образова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ехнологии организации и финансирования системы подготовки, переподготовки и повышения квалифик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формационных и коммуникационных технологий в системе повышения квалифик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евое взаимодействие и деятельность социальных сетей учител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я модель аттестации педагогических и руководящих кадр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750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школьной инфраструкту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2000160"/>
            <a:ext cx="79293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е подушевое финансир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школьных сове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школ ступеней обучения: младшие школьники, подростки, старшие школьни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автономных учреждений общего образов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5:48:30Z</dcterms:created>
  <dc:creator>Ирина Петровна</dc:creator>
  <dc:description/>
  <cp:keywords/>
  <dc:language>en-US</dc:language>
  <cp:lastModifiedBy>Ирина Петровна</cp:lastModifiedBy>
  <dcterms:modified xsi:type="dcterms:W3CDTF">2009-07-29T10:50:26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41049</vt:lpwstr>
  </property>
</Properties>
</file>